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327E-5832-478D-BF51-7CCA031B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E850-5601-46C9-8657-536B61D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61BD-54AB-44DA-A91F-F9D90345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3A36-0338-4F9A-947D-96951E30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F236-1D97-42FE-9AA3-1CDFE141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5D32-B64E-49FA-BAC9-E55CA95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FE3-3356-4721-BC13-4D9BB25C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7D48-7203-447D-BBF0-91D9680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3E60-ADA4-4D9C-8C33-EE27F23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7C00-59F0-46F0-A5CB-349AA0CC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15EA-91CB-49CF-994E-70E2C3B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FF78-C9A1-4A2F-8511-C74076F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C45C-3CF9-46E4-89A2-58B7301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073-8D3C-4574-9DF1-F8F24E5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E9B6-251D-49F6-919D-CAE6513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1EA3-E6FE-4F62-A449-F89BA480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D8F-D46D-4FCD-A18F-059EE048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F2C5-463D-4C8A-A242-B8F30D3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2528-335A-43CA-819E-0F87587A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76B7-FA86-483E-AF4C-F0ACBA79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2654-1A8D-447D-AADC-872EB860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DD20-3CA5-4174-929B-FCD62C7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281E-08D4-445C-B333-DCF879DA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D200-32B5-4DC7-AE10-7839C0B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9A4-6D1D-4203-99D3-663ADA4D3C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7A2-65B8-46C4-86F9-88514254B7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iding and Showing Objec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181480"/>
            <a:ext cx="2133360" cy="609840"/>
          </a:xfrm>
          <a:custGeom>
            <a:avLst/>
            <a:gdLst>
              <a:gd name="textAreaLeft" fmla="*/ 39240 w 2133360"/>
              <a:gd name="textAreaRight" fmla="*/ 2094120 w 2133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30" h="21600">
                <a:moveTo>
                  <a:pt x="0" y="0"/>
                </a:moveTo>
                <a:lnTo>
                  <a:pt x="75530" y="0"/>
                </a:lnTo>
                <a:lnTo>
                  <a:pt x="75530" y="21600"/>
                </a:lnTo>
                <a:lnTo>
                  <a:pt x="0" y="21600"/>
                </a:lnTo>
                <a:close/>
              </a:path>
              <a:path fill="lightenLess" w="75530" h="21600">
                <a:moveTo>
                  <a:pt x="0" y="0"/>
                </a:moveTo>
                <a:lnTo>
                  <a:pt x="75530" y="0"/>
                </a:lnTo>
                <a:lnTo>
                  <a:pt x="74130" y="1400"/>
                </a:lnTo>
                <a:lnTo>
                  <a:pt x="1400" y="1400"/>
                </a:lnTo>
                <a:close/>
              </a:path>
              <a:path fill="darken" w="75530" h="21600">
                <a:moveTo>
                  <a:pt x="75530" y="0"/>
                </a:moveTo>
                <a:lnTo>
                  <a:pt x="75530" y="21600"/>
                </a:lnTo>
                <a:lnTo>
                  <a:pt x="74130" y="20200"/>
                </a:lnTo>
                <a:lnTo>
                  <a:pt x="74130" y="1400"/>
                </a:lnTo>
                <a:close/>
              </a:path>
              <a:path fill="darkenLess" w="75530" h="21600">
                <a:moveTo>
                  <a:pt x="7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0" y="20200"/>
                </a:lnTo>
                <a:close/>
              </a:path>
              <a:path fill="lighten" w="7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ss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rou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980280" y="1636560"/>
            <a:ext cx="58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initializ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040" y="2971800"/>
            <a:ext cx="768168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rst, we have to hide the two shapes that we want to show later. You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e that both shapes are on slide number 3.  The shapes are the first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cond object that we placed on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9920" y="4227480"/>
            <a:ext cx="575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 show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1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Presentation.Slides(3). Shapes(2). Visible =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0640" y="55990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y changing the word False to True, shapes will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 hidden="1"/>
          <p:cNvSpPr/>
          <p:nvPr/>
        </p:nvSpPr>
        <p:spPr>
          <a:xfrm>
            <a:off x="990720" y="1219320"/>
            <a:ext cx="2514600" cy="2514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 hidden="1"/>
          <p:cNvSpPr/>
          <p:nvPr/>
        </p:nvSpPr>
        <p:spPr>
          <a:xfrm>
            <a:off x="5334120" y="1676520"/>
            <a:ext cx="2438280" cy="2133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762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3160" y="646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066680"/>
            <a:ext cx="685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53040" y="569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578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4876560"/>
            <a:ext cx="8380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45360" y="45324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the macro to initializ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486400"/>
            <a:ext cx="1295640" cy="60948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903" h="21600">
                <a:moveTo>
                  <a:pt x="0" y="0"/>
                </a:moveTo>
                <a:lnTo>
                  <a:pt x="45903" y="0"/>
                </a:lnTo>
                <a:lnTo>
                  <a:pt x="45903" y="21600"/>
                </a:lnTo>
                <a:lnTo>
                  <a:pt x="0" y="21600"/>
                </a:lnTo>
                <a:close/>
              </a:path>
              <a:path fill="lightenLess" w="45903" h="21600">
                <a:moveTo>
                  <a:pt x="0" y="0"/>
                </a:moveTo>
                <a:lnTo>
                  <a:pt x="45903" y="0"/>
                </a:lnTo>
                <a:lnTo>
                  <a:pt x="44503" y="1400"/>
                </a:lnTo>
                <a:lnTo>
                  <a:pt x="1400" y="1400"/>
                </a:lnTo>
                <a:close/>
              </a:path>
              <a:path fill="darken" w="45903" h="21600">
                <a:moveTo>
                  <a:pt x="45903" y="0"/>
                </a:moveTo>
                <a:lnTo>
                  <a:pt x="45903" y="21600"/>
                </a:lnTo>
                <a:lnTo>
                  <a:pt x="44503" y="20200"/>
                </a:lnTo>
                <a:lnTo>
                  <a:pt x="44503" y="1400"/>
                </a:lnTo>
                <a:close/>
              </a:path>
              <a:path fill="darkenLess" w="45903" h="21600">
                <a:moveTo>
                  <a:pt x="4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" y="20200"/>
                </a:lnTo>
                <a:close/>
              </a:path>
              <a:path fill="lighten" w="4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15000" y="5181480"/>
            <a:ext cx="9907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60836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 macro to Sh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0:24Z</dcterms:created>
  <dc:creator>jnatale</dc:creator>
  <dc:description/>
  <dc:language>en-US</dc:language>
  <cp:lastModifiedBy>jnatale</cp:lastModifiedBy>
  <dcterms:modified xsi:type="dcterms:W3CDTF">2009-02-19T18:12:11Z</dcterms:modified>
  <cp:revision>3</cp:revision>
  <dc:subject/>
  <dc:title>Hiding and Showing Objects</dc:title>
</cp:coreProperties>
</file>